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93E-C49B-4709-920B-98FF9D09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406-BEEE-487F-B419-D69557EE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0ED-540A-42A0-A870-7A7A5CBE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544-CC48-4713-8C9E-CAC166E5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8DAE-7FB4-4535-BBB8-EE282325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F333-30FB-4155-9D71-D7901B60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25DB-AA27-4E83-9698-6A647D2C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2739-2D2B-47AA-8E7A-AA8FCA98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4622-21B2-42EA-ADFB-27BFA959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1AF1-C7D0-4851-859A-7D773650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B0D9-44D5-4E01-8297-697FCF8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75C-7D54-4FE1-9AAD-AE895777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89B0-6F42-4783-8FBC-5697F81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9B38-537E-4F56-AB88-F40CFC3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7B40-0FFD-4318-B807-A9C3291F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307E-6498-4149-AF6D-47FAD2B2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05F7-991B-45A9-AF71-050A7F7E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14E-A162-4204-913E-84051C86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748-5EFB-493E-A778-740B3F3D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166-6F12-4153-A567-48C3151A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E30-6B1D-45A0-881C-13EE374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BBA-12AD-4E8D-8E76-85AF7F4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692-BE49-451A-B186-13E99684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BAE-1B7C-423B-9167-9AE19E1F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6788-A6CF-4DDA-9289-9DAC76D55B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A64E-B494-4FCA-B33C-77F61D1928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tourismguide.ro/galerie-foto-orasul-baile-tusnad-depresiunea_ciucului.html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tourismguide.ro/galerie-foto-orasul-baile-tusnad-lacul_sfanta_ana.html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tourismguide.ro/galerie-foto-orasul-baile-tusnad-sculpturi_din_lemn.html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tourismguide.ro/galerie-foto-orasul-baile-tusnad-parc_baile_tusnad.html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infotravelromania.ro/foto%20mic/romania/bucovina/manastiri/sucevita_manastire/intrare_manastireascevita.jpg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2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hyperlink" Target="http://www.iturism.ro/imagini/xl/image_10748.jpg" TargetMode="External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ETAPELE DE CONCEPERE A UNUI PRODUS TURISTIC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ategorii de produse turis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1280" y="5589720"/>
            <a:ext cx="8064360" cy="93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Times New Roman"/>
              </a:rPr>
              <a:t>CIRCUITE,SEJURURI(PACHETE DE VACANTA),CROAZIE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Times New Roman"/>
              </a:rPr>
              <a:t>PRODUSE TEMA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tatiuni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exempl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2 de statiuni balneare, respectiv 32 de statiuni turist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ara( judetul Ialomita), Busteni(judetul Prahova), Buzias(judetul Timis), Baile Felix(judetul Bihor), Baile Hercula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deal(judetul Brasov), Saturn(judetul Contanta), Sinaia(judetul Prahova), Singeorz-Bai(judetul Bistrita-Nasaud), Slanic Moldova(judetul Bcau), Sovata( judetul Mures), Tîrgu Ocna(judetul Bacau), Techirghio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Sejur la Baile Tusn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ec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omania, Braso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tinati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omania, Baile Tusn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0 LE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6 z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ort:transport autoc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z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nsiune ** camere sing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mipensiu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criere:Vã asteptãm la pensiunea Varteto, din Bãile Tusnad, de Revelion!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agini din statiu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Poze Baile Tusnad | Depresiunea Ciuculu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1557360"/>
            <a:ext cx="3673440" cy="2158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Poze Baile Tusnad | Lacul Sfanta An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162864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Poze Baile Tusnad | Sculpturi din lemn Baile Tusna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3933720"/>
            <a:ext cx="3960720" cy="2159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Poze Baile Tusnad | Parc Baile Tusnad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3280" y="4005360"/>
            <a:ext cx="4032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Turul Manastirilor Din Moldo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ucuresti – Buzau – Focsani – Panciu – Marasesti – Tecuci – Vaslui – Iasi – Cotnari – Ipotesti – Suceava - Ciprian Porumbescu - Gura Humorului - Targu Neamt - Piatra Neamt - Miercurea Ciuc – Brasov - Rasnov – Bran - Sinaia- Bucure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Descopera Manastirile Moldovei"/>
          <p:cNvPicPr/>
          <p:nvPr/>
        </p:nvPicPr>
        <p:blipFill>
          <a:blip r:embed="rId3"/>
          <a:stretch/>
        </p:blipFill>
        <p:spPr>
          <a:xfrm>
            <a:off x="4643280" y="1484280"/>
            <a:ext cx="3961080" cy="223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103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MANASTIRI  DIN MOLDO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Manastirea  Sucevita decembrie 20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628640"/>
            <a:ext cx="4105440" cy="2087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manastirea Voronet 2006"/>
          <p:cNvPicPr/>
          <p:nvPr/>
        </p:nvPicPr>
        <p:blipFill>
          <a:blip r:embed="rId7"/>
          <a:stretch/>
        </p:blipFill>
        <p:spPr>
          <a:xfrm>
            <a:off x="4643280" y="1557360"/>
            <a:ext cx="4032360" cy="2158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Mănăstirea Humor"/>
          <p:cNvPicPr/>
          <p:nvPr/>
        </p:nvPicPr>
        <p:blipFill>
          <a:blip r:embed="rId8"/>
          <a:stretch/>
        </p:blipFill>
        <p:spPr>
          <a:xfrm>
            <a:off x="324000" y="3860640"/>
            <a:ext cx="4103640" cy="2571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Mănăstirea Sucevita"/>
          <p:cNvPicPr/>
          <p:nvPr/>
        </p:nvPicPr>
        <p:blipFill>
          <a:blip r:embed="rId9"/>
          <a:stretch/>
        </p:blipFill>
        <p:spPr>
          <a:xfrm>
            <a:off x="4572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ccecff"/>
                </a:solidFill>
                <a:latin typeface="Times New Roman"/>
              </a:rPr>
              <a:t>TURUL MANASTIRILOR SI BISERICILOR DIN ZONA SNAGOV</a:t>
            </a:r>
            <a:r>
              <a:rPr b="0" lang="pt-BR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iective majore 3 vechi manastiri foarte diferite: una cu maici, a doua izolata pe o insula (un staret), a treia cu calugar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serica din Ciofliceni, Biserica din Ghermanesti, Biserica din Snagov-Sat.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urat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t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: 68 EURO sau 240 RON/persoana. 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Include: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ghid pe toata durata circuitului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transport cu autocarul Bucuresti-Tiganesti-Snagov-Caldarusani-Bucuresti - taxe de intrare la cele 3 manastiri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transportul pe apa la Manastirea Vlad Tepes cu vaporasul (circa 2 x 20 min)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- refreshment si pranz (la restaurant sau pe vaporas)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Grup: minim 30 persoa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agini din Snago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Snagov | Galerie Foto Orasul Snagov"/>
          <p:cNvPicPr/>
          <p:nvPr/>
        </p:nvPicPr>
        <p:blipFill>
          <a:blip r:embed="rId4"/>
          <a:stretch/>
        </p:blipFill>
        <p:spPr>
          <a:xfrm>
            <a:off x="539640" y="1628640"/>
            <a:ext cx="3961080" cy="2019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Snagov | Informatii utile Snagov"/>
          <p:cNvPicPr/>
          <p:nvPr/>
        </p:nvPicPr>
        <p:blipFill>
          <a:blip r:embed="rId5"/>
          <a:stretch/>
        </p:blipFill>
        <p:spPr>
          <a:xfrm>
            <a:off x="4788000" y="1628640"/>
            <a:ext cx="3816360" cy="201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Obiective Turistice Orasul Snagov | Galerie foto"/>
          <p:cNvPicPr/>
          <p:nvPr/>
        </p:nvPicPr>
        <p:blipFill>
          <a:blip r:embed="rId7"/>
          <a:stretch/>
        </p:blipFill>
        <p:spPr>
          <a:xfrm>
            <a:off x="539640" y="3933720"/>
            <a:ext cx="38880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Cazare Snagov | Poze unitati cazare Snagov "/>
          <p:cNvPicPr/>
          <p:nvPr/>
        </p:nvPicPr>
        <p:blipFill>
          <a:blip r:embed="rId8"/>
          <a:stretch/>
        </p:blipFill>
        <p:spPr>
          <a:xfrm>
            <a:off x="4643280" y="3860640"/>
            <a:ext cx="4105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ipuri de croazie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ea Caraibelor, Marea Mediterana, Alaska si Europa ,croaziere pe N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oazierele temati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trag calatori dintr-o gama mare de varsta si de aceea pietele tinta variaza in functie de tematica croazierei. Multe teme se bazeaza pe activitati sau destinatii care pot fi vizitate in timpul croazierei , cum ar fi artele, dansul sau golful. Calatorii tind sa fie modesti, singuratici sau senior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ROAZIERE PE N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TARAMUL FARAONIL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 –MAGIA NILULU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MISTERUL PIRAMIDEL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SECRETUL SFINXULU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GIPT-MISTERELE NUBIE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1.CULEGEREA INFORMATIILOR DESP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re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venituri,timp liber,varsta,categorie socioprofesion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erta concurente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produsele turistice oferite,preturile si tarifele practic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onene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cluse in propria oferta:obiective,baza tehnico-materi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IMAGINI,EGI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Turism Egipt - Croaziera pe Nil"/>
          <p:cNvPicPr/>
          <p:nvPr/>
        </p:nvPicPr>
        <p:blipFill>
          <a:blip r:embed="rId4"/>
          <a:stretch/>
        </p:blipFill>
        <p:spPr>
          <a:xfrm>
            <a:off x="395280" y="1484280"/>
            <a:ext cx="4032360" cy="2089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Circuit Egipt"/>
          <p:cNvPicPr/>
          <p:nvPr/>
        </p:nvPicPr>
        <p:blipFill>
          <a:blip r:embed="rId5"/>
          <a:stretch/>
        </p:blipFill>
        <p:spPr>
          <a:xfrm>
            <a:off x="4572000" y="148428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611280" y="3933720"/>
            <a:ext cx="3744720" cy="223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4716360" y="4005360"/>
            <a:ext cx="410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SEE TURISTICE SPECIFICE MARAMURESULU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seul Bisericilor de lemn: Deseşti - Ieud - Bogdan Vodă - Bârsana - Giuleşi - Budeşti - Fereşti - Vadu Izei - Rozavlea - Rogoz sau pe ruta Sighetu Marmaţiei - Vadu Izei - Fereşti - Corneşti - Călineşti - Sârbi - Sat Şugatag Mânăstire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rul staţiunilor balneo-climaterice : Ocna Şugatag - Băile Cărbunari - Băile Dăneşti - Băile Botiza - Băile Borşa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3672000" cy="2016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859280" y="1557360"/>
            <a:ext cx="3745080" cy="2158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468360" y="3860640"/>
            <a:ext cx="4032360" cy="2305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4643280" y="3933720"/>
            <a:ext cx="3889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Oferte de lit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elion 2008 la Hotel Europa 4* in Eforie Nord!!!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rata: 3 zile 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ort: la cerere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zare: Hotel ****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a inclusa : mic dejun 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erta valabila:pana in Ianuarie 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ie oferta : Revelion 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ioada30.12.2007-02.01.2008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tul 1110RONNota : Preturile sunt pentru o persoana/seju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3456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Turul cetatilor mediev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ucuresti – Brasov – Prejmer – Rupea – Sigisoara – Biertan – Medias – Sibiu – Bucure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Transilvania-Cetati Medievale"/>
          <p:cNvPicPr/>
          <p:nvPr/>
        </p:nvPicPr>
        <p:blipFill>
          <a:blip r:embed="rId2"/>
          <a:stretch/>
        </p:blipFill>
        <p:spPr>
          <a:xfrm>
            <a:off x="4643280" y="1700280"/>
            <a:ext cx="410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Exemple de obiective turistice medieval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395280" y="1700280"/>
            <a:ext cx="4032360" cy="1873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42920" y="3357720"/>
            <a:ext cx="2952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RUPEA-CETATEA DAC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4716360" y="1628640"/>
            <a:ext cx="3959280" cy="2087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859280" y="3429000"/>
            <a:ext cx="3745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BIERTAN-BIS.FORTIFIC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395280" y="3933720"/>
            <a:ext cx="4032360" cy="2087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68360" y="5805360"/>
            <a:ext cx="403236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SIBIU-ORASUL VEC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3789360"/>
            <a:ext cx="4105080" cy="244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859280" y="5805360"/>
            <a:ext cx="4284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SIGHISOARA-CE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1.CULEGEREA INFORMATIILOR DESP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re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venituri,timp liber,varsta,categorie socioprofesion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erta concurente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produsele turistice oferite,preturile si tarifele practic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onene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cluse in propria oferta:obiective,baza tehnico-materia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Selectarea obiectivel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uristice,serviciilor oferite si unitatile prestatoare in functie de tipologia clientelei si particularitatile cererii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3.Combinarea si asamblarea componentelor produsului turistic-orgnizare prelimina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ur-operatorul aleg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tinat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jlocul de transpor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tatile de cazare,unitatile de alimentati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te servicii incluse in pache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4.Asigurarea serviciilor pe parcursul calatori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ntia de turism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ie contracte ,conventii cu prestatorii directi de servicii turistic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ite comenzi de rezerv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 intocmi programul turist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5.Determinarea calcului produsului turist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aliza de pr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a contin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ul serviciilor de baza:transport,cazare,alimentati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ul serviciilor supliment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s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.V.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.S.D.P.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6.Promovarea produsului turist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alizarea si distribuirea brosurilor,pliantelor,afiselor turistic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ss-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7.Lansarea produsului turistic pe piat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 sir de actiuni prin care produsele turistice se fac cunoscute atat pe plan local cat si nationa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0:44:58Z</dcterms:created>
  <dc:creator>moni</dc:creator>
  <dc:description/>
  <dc:language>en-US</dc:language>
  <cp:lastModifiedBy>moni</cp:lastModifiedBy>
  <dcterms:modified xsi:type="dcterms:W3CDTF">2007-10-24T23:26:20Z</dcterms:modified>
  <cp:revision>14</cp:revision>
  <dc:subject/>
  <dc:title>ETEPELE DE CONCEPERE A UNUI PRODUS TURISTIC</dc:title>
</cp:coreProperties>
</file>